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C5F-1F29-4C2F-8285-0748D53A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BF3B-6424-491F-8EAE-B1B73197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D1F-DF21-42A7-B8D5-30DB0AB1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B48-6745-4996-A76C-6503C591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185-0EA7-4625-A90E-6FD4BA54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C751-ADAC-4E34-AF2C-0F0CA853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587F-F43D-47EE-8473-82E2EDA9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80E8-CCC0-44AE-8BD5-44E2E40D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0077-F6F6-4715-AB31-1DE97B4C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A2C8-763D-460A-8836-2B66C71F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A10-4A57-4205-8B38-C95F2DB4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FB4-083B-4158-AD51-FCAABC09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09A4-694C-4273-AFD4-93E11988D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Rep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94344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48080" y="1405080"/>
            <a:ext cx="404784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95480" y="1752480"/>
            <a:ext cx="379584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0600" y="164304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43040" y="1090440"/>
            <a:ext cx="5857920" cy="46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43280" y="1090440"/>
            <a:ext cx="5257800" cy="46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43160" y="152388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476440" y="1523880"/>
            <a:ext cx="41911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19200" y="2119320"/>
            <a:ext cx="43056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4:53:32Z</dcterms:created>
  <dc:creator>asmith</dc:creator>
  <dc:description/>
  <dc:language>en-US</dc:language>
  <cp:lastModifiedBy>asmith</cp:lastModifiedBy>
  <dcterms:modified xsi:type="dcterms:W3CDTF">2011-01-31T15:34:46Z</dcterms:modified>
  <cp:revision>2</cp:revision>
  <dc:subject/>
  <dc:title>Les Repas</dc:title>
</cp:coreProperties>
</file>